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DCAC-354B-4BB9-BFEE-519B11FC43F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9A32-3A3D-4991-8273-AA04DA3C232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1B84-C5E6-47E6-B8C3-AC05DA36F3E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FF9E-8578-4097-86D8-B034A0E2371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30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20F9-0F06-4B01-80BE-2000F17EED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B7B8-362C-4318-98B3-D5D27A9F112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92E6-6761-4105-B8AA-F91AFCEFB84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95BA6-7911-49BF-8BC8-AB72EC7EA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D7F69-00A5-4643-BEF4-B665161C4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6EC5A-FCBD-4450-99F3-D1C508A43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2121B-1F8F-4C24-8CE9-C33E6396D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A3C04-1321-4F48-A212-49BC90810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BE116-82C2-4733-8C9D-2E631D2CA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9F62E-51C4-4290-B84A-91C1AA872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A66B3-5916-42C0-8281-09E771EF8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F4065-7557-4A36-A308-15DB589B6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36CEF-DC35-4215-AA63-3AEB533D5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9EC7B-84B4-4BFF-99AD-DBA7BDEFB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2C7AA-DE23-4E79-BCDC-2784C0C86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AA42-BB25-49B4-A05D-D62658A3154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30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6-02-07T22:04:44Z</dcterms:modified>
  <cp:revision>23</cp:revision>
  <dc:subject/>
  <dc:title>Languages</dc:title>
</cp:coreProperties>
</file>